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41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dt" idx="37"/>
          </p:nvPr>
        </p:nvSpPr>
        <p:spPr>
          <a:xfrm>
            <a:off x="3858840" y="0"/>
            <a:ext cx="2954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Img"/>
          </p:nvPr>
        </p:nvSpPr>
        <p:spPr>
          <a:xfrm>
            <a:off x="920520" y="746280"/>
            <a:ext cx="497340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ftr" idx="38"/>
          </p:nvPr>
        </p:nvSpPr>
        <p:spPr>
          <a:xfrm>
            <a:off x="0" y="9443520"/>
            <a:ext cx="295416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 type="sldNum" idx="39"/>
          </p:nvPr>
        </p:nvSpPr>
        <p:spPr>
          <a:xfrm>
            <a:off x="3858840" y="9443520"/>
            <a:ext cx="29545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C5EA-43AA-44D0-8815-1FBF1947A6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3400" cy="37288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тульный слай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Номер слайда 3"/>
          <p:cNvSpPr/>
          <p:nvPr/>
        </p:nvSpPr>
        <p:spPr>
          <a:xfrm>
            <a:off x="3859200" y="9443880"/>
            <a:ext cx="2954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2984-617F-4D93-BE6C-6165176492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873A-FB8A-4534-91CB-6D572076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3C6B-1BDA-4CC4-A49A-47C400DE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B71FE-F79B-4F98-B207-DBF97538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7F947-1BB8-4E26-9D71-AE4938C1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CA61C-B986-4CCC-BD7C-E14A1838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4F9C5-D628-4F96-A34A-051DB915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1CAEC-25ED-42D1-B889-BD2D965A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B2F56-867C-4410-9588-E4F8A65D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3F3FC-2075-4664-B5BB-E5B41154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EA1D9-EDB5-44A9-8126-FBFC112F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5438C-0A5A-4190-845D-55D7470E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54885-E835-4358-B14E-2D4F399E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079E-56D6-4DD6-8B13-5F8D89DF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09089-E064-43C1-9656-C6E72A69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2901C-65A8-4F95-8283-BA8D2487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977B4-9009-4D34-9189-09DE4AE4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DDE98-B48D-4B48-8B5C-1A88D153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BB053-006C-460B-B9B5-07AF6444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A3B9D-8589-4D7C-A703-F1EC6394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D7B8E-8D4C-40C5-9235-693D6582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48E5C-4AAB-4078-8DEB-CF99FB76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AF617-41C6-4100-A789-C180C160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0DDA4-6124-4B3D-9704-B0EEDADC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82B4-9D90-4F52-A544-695817A0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FABE3-54F0-4470-8CCE-1091F79A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10329-26B8-47A4-958D-2458F7E3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2262B-61F4-4354-B66C-0BC8B04A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10814-4AF8-42EA-99A3-4A137F9F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56411-3BD9-4A96-8ABF-2F156BEF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DE3FE-9C16-4DE1-AFA2-5A96148A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EDE20-0DFB-49AC-A37C-D8F9F545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D9F0E-0E21-41FB-9185-6741C091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0F954-013C-4F99-A0AB-2284548B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878FD-DD1C-4CEB-8D87-D36430A6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3018-C37D-440C-9444-BD9A73F7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A8BC9-BB60-4210-AE4D-E04173B9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0D94D-237C-4964-B1F3-3C24F11F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4DF4F-037A-4688-A753-4D539880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E48B1-21A3-4479-873F-56ED7F8D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F6FB7-DAC7-4C00-8621-B31CB253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CA722-10B0-48AA-A05A-AE13A87B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ACEC2-840F-4490-993F-9541E821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1CE2D-D208-405B-9932-6B2546C5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A6171-7BA0-451C-B0AB-8AB6D79D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9A78F-F052-47F8-BCDF-9A305E61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5E28-540C-4866-BD77-7B3ED7B4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93A45-FF29-441E-AF50-128B862F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B9E5D-E192-4742-8693-A69AC58F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268E5-B684-4B06-A460-F83B1939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D6A77-2554-400B-906B-C9A7209A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2BA07-426B-43CF-9C39-345C6F09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FD9D-019F-443D-B409-472FE727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C93B-72AC-431F-9313-CE95B280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8A18-52AC-40DB-B930-61EB2BF7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CDBB-F3C1-42E7-8C2D-7A46BA02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144C-D777-46F8-AE8C-9D39F37A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C20E-7D2E-44F7-9C07-B57F7D76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F40A-4FC3-4204-A23A-DB0A6195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E52E-32F1-4250-AD22-62C8A524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ABB6-43B3-4188-BBAD-C322D8BC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D858-2E4D-4887-ADDF-4C65D87D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7562-5E9C-40E5-9A8C-5B06D4DC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8DFA6-4C23-4035-B64F-5FD96C59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63FE5-516F-4D8C-8CA3-778CCCD8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CA721-A7AE-4850-A3C3-ECCCB750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E2069-0C90-4190-854D-ED07B7A1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32BDD-C468-4AB3-9F9D-49DC3F44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B41-1FEA-40B3-AFBB-CC667F30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1BEDA-D18C-4376-8F3A-7D0DDD9C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CA4D9-6DDE-42B7-83E5-E7836B77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12DE6-6572-4744-AD2A-09873277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CF0EA-D08D-41B8-BA0F-A74D269F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36D0E-4C24-499A-8591-92729269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3B34B-414D-4FF2-8FA3-C3526397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862C0-02CC-4D04-863D-79EE6A6A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38D1C-CC00-488F-9B2F-9106CE45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13B01-4145-43B2-B973-AAE76E4A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2537D-543A-4FF2-BFF6-7DB83020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28AF-C6A7-46F8-8AD0-EC7E90BB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E2DA7-5701-47E5-8C44-E9FF9150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00ED1-38A2-4846-A287-924B34EF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16A01-2DA6-4D7D-9BF6-3608354E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19E19-6001-4A6F-B67B-C4387FD9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DF43C-6485-4145-BF8C-D52FE205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B44A6-4702-4F73-AA62-2DB6F2D6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ADC9F-EFA6-4BB5-ABAB-F8A3A122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8B0FF-3DE1-4105-9182-652DC417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230F7-417E-4047-82F4-5643D895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DDA46-C554-4F7C-A8D3-1DE7E793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5BB3-72DB-46E9-8E7C-854BB0A3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3BB27-C35F-4630-A5F2-520702E4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704A6-531A-4B56-A5F2-8728BE6D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57826-2ED7-4B5B-A727-DD9B32BE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6C2AC-CFF6-44EA-B60B-62D1FA5B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C2632-E9F3-4508-ADCC-DCDF043E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DEBED-F267-4C1A-9666-E423213F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CA709-0844-4862-9BAE-3F3E7514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54EEF-AFCB-42FA-9EB1-AEC3131F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94F15-41D2-4F85-BA98-8E76F588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D6D60-91B8-42FA-9D76-C0665007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9B89-FB0C-47EB-9B5C-EEC744DC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F7164-E7AD-4A6A-82E0-190E2DFC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83421-06BC-47E0-89B8-D2CBDA26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C2324-C937-42F1-83DD-A32D32B3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CB7ED-B454-41A8-BD0F-F6691958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6C94B-03F3-4CF6-A2D6-98424C3C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4DB90-3B96-44BA-96AF-E4CE3CE2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CA9BF-11BD-414A-80E0-DAB898F8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3309C-D497-4558-9CAD-1E616485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0AB3C-C64E-496C-A238-CE404B90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2CAED-33F6-43AE-BC37-9EA655DA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DF7-7553-4705-A599-733B6098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1676F-847F-49F8-8BC7-F28287E1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3F34A-6FD1-4401-85B5-46D55F10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CE057-6ECF-4BFF-A9AA-0D2E5E83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8ECAB-AAF2-4982-9C0F-38327F3E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7F368-4BF3-47C6-9BC3-27E941F5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24A2A-9BCC-4B59-BFB9-0ACF3086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8DFAE-7B83-4831-99DC-E2E7A902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969D5-E4CF-4E5F-80FF-2FABF5F9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88ABD-ECDE-4FF3-BB81-08DA8093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4C404-3242-400B-93BC-E0F46E79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69A7-2572-4FAA-8EC3-8B17B9AB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73604-7584-4F88-97BA-80AE7A65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C1258-D2C0-4D44-88A8-585B6DCB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2EF3A-8753-4625-84E3-FAB34011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1D798-1F85-4784-8B88-408CEEF4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78C17-AAFD-40A6-B279-AE99A3F7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5A190-C47F-4CE0-81BE-98959A96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F4AC4-0914-4D3B-9865-9E1F2EE8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C1DE2-33F1-4B16-B1BB-890291C2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E6727-6E93-4E1E-A275-6F18F3DC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7AE9C-90FA-4AB4-AC06-B19F50CA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E380-F04C-4FD2-A99E-7AD1D02D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38EE5-8384-47FD-94D9-E8FF1050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0911A-2B01-4AA0-971D-BBCFF52F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12BA7-64D1-42CF-83E7-08A9BD9B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41535-5D7A-4FD5-9002-59F03A08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5C69F-7923-4AC8-A3B6-15C4D9CB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D1BF1-6DA9-4EE1-96CE-5E98A612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CB5D5-3F44-4FD4-958D-7ED9B9E1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AA1E8-A8B3-4A59-B868-0459D881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26175-B042-49BA-8CD1-95052F46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74430-F531-4778-82C3-882614C4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A218-369E-4E95-B7A0-E85D2EC64EF4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B72E-9B0C-441E-A733-F63C43A0626D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54B7-DCE6-4243-B0AE-E12AFE551CE6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6633-2F9A-4AAC-B6B8-D03EC01B1350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9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62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65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29EE-EA52-43B3-8C8C-1D3EF70F7AC9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1B85-F024-4F42-A551-30E654A414E9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ADCC-3228-486A-9718-195E4E3148B3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2897-83D5-40F2-BFA2-49B446B0CED5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4022640"/>
            <a:ext cx="8643960" cy="25560"/>
            <a:chOff x="506520" y="4022640"/>
            <a:chExt cx="8643960" cy="255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402264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40356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87F9-3981-4390-BC40-DBCCF1DFCFF0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D0B5-2384-4FE4-8F41-F7632FB2F1B9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A97B-4DA1-4AA0-B1AA-0EF3AE450DD8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21A5-7471-4868-83EA-2BB4720B935D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82B1-93B4-4F25-AC26-34C3C03A9307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209F-8BEE-4BCF-8838-14E6D8841A4B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9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92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5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2487-48AE-414E-86FD-1279AE3781CE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9C79-9428-4C94-B3E0-7CF42CC080F9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9" name="Прямая соединительная линия 10" descr=""/>
            <p:cNvPicPr/>
            <p:nvPr/>
          </p:nvPicPr>
          <p:blipFill>
            <a:blip r:embed="rId2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A40D-3158-488F-B8DD-D16E17F273F9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D754-D6CB-46DC-9D70-C0F01889081B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3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6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9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34AB-2D71-41BB-BF9D-0E247373627D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Эффективное управление временем и ресурсами.                                                                                            </a:t>
            </a:r>
            <a:fld id="{451B8581-E641-48FA-95BC-9D1D4CF30033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A68B-F8EC-443B-BD66-E23AA4005C34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75EB-05E8-4E32-A2DA-125F973D1051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74" name="Прямая соединительная линия 7" descr=""/>
            <p:cNvPicPr/>
            <p:nvPr/>
          </p:nvPicPr>
          <p:blipFill>
            <a:blip r:embed="rId2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C9EE-BCCB-43DE-B60C-9BBA34A42D79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E2E3-655D-4B82-BE45-971A2D2BBE5A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dunoskol.ru/" TargetMode="Externa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61440" y="2133720"/>
            <a:ext cx="84582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СОЗДАНИЕ МУНИЦИПАЛЬНОГО ЦЕНТРА </a:t>
            </a:r>
            <a:br>
              <a:rPr sz="2500"/>
            </a:br>
            <a:r>
              <a:rPr b="1" lang="ru-RU" sz="25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ПО ПОДГОТОВКЕ К ВСЕРОССИЙСКОЙ ОЛИМПИАДЕ ШКОЛЬНИКОВ ДЛЯ УЧАЩИХСЯ ОБЩЕОБРАЗОВАТЕЛЬНЫХ УЧРЕЖДЕНИЙ РАЙОНА НА БАЗЕ 4-Х ШКОЛ ГОРОДА</a:t>
            </a:r>
            <a:endParaRPr b="0" lang="en-US" sz="25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380520" y="1628280"/>
            <a:ext cx="845820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Управление образования администрации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муниципального района «Новооскольский район»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357120" y="5013360"/>
            <a:ext cx="57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Franklin Gothic Book"/>
              </a:rPr>
              <a:t>Заместитель начальника управления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Franklin Gothic Book"/>
              </a:rPr>
              <a:t>Лакомова Марина Борис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9"/>
          <p:cNvSpPr/>
          <p:nvPr/>
        </p:nvSpPr>
        <p:spPr>
          <a:xfrm>
            <a:off x="324000" y="6357960"/>
            <a:ext cx="67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95959"/>
                </a:solidFill>
                <a:latin typeface="Franklin Gothic Book"/>
              </a:rPr>
              <a:t>Новый Оскол, 2020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8"/>
          <p:cNvGrpSpPr/>
          <p:nvPr/>
        </p:nvGrpSpPr>
        <p:grpSpPr>
          <a:xfrm>
            <a:off x="326880" y="230040"/>
            <a:ext cx="1142640" cy="1294920"/>
            <a:chOff x="326880" y="230040"/>
            <a:chExt cx="1142640" cy="1294920"/>
          </a:xfrm>
        </p:grpSpPr>
        <p:pic>
          <p:nvPicPr>
            <p:cNvPr id="561" name="Picture 9" descr="gerbbot"/>
            <p:cNvPicPr/>
            <p:nvPr/>
          </p:nvPicPr>
          <p:blipFill>
            <a:blip r:embed="rId1"/>
            <a:stretch/>
          </p:blipFill>
          <p:spPr>
            <a:xfrm>
              <a:off x="326880" y="1054440"/>
              <a:ext cx="114264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10" descr="gerbtop"/>
            <p:cNvPicPr/>
            <p:nvPr/>
          </p:nvPicPr>
          <p:blipFill>
            <a:blip r:embed="rId2"/>
            <a:stretch/>
          </p:blipFill>
          <p:spPr>
            <a:xfrm>
              <a:off x="326880" y="230040"/>
              <a:ext cx="1142640" cy="824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ЦЕЛЬ И РЕЗУЛЬТАТ ПРОЕКТА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395280" y="1103400"/>
          <a:ext cx="8601120" cy="5562360"/>
        </p:xfrm>
        <a:graphic>
          <a:graphicData uri="http://schemas.openxmlformats.org/drawingml/2006/table">
            <a:tbl>
              <a:tblPr/>
              <a:tblGrid>
                <a:gridCol w="1890720"/>
                <a:gridCol w="6710400"/>
              </a:tblGrid>
              <a:tr h="885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проекта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1 декабря 2020 года создать условия для качественной подготовки не менее 150 учащихся общеобразовательных учреждений Новооскольского к региональному этапу всероссийской олимпиады школьни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 достижения цел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муниципального центра по подготовке к всероссийской олимпиаде школьников в Новооскольском райо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проек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на работа муниципального центра по подготовке не менее 150 учащихся  общеобразовательных учреждений района к всероссийской олимпиаде школь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1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к результату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рганизована дистанционная подготовка к олимпиадам через участие в различных предметных конкурсах и дистанционных олимпиадах  100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еспечена консультационная поддержка не менее 150 учащихся, не менее 70 педагогов и не менее 100 родителей по вопросам, связанным с организацией и проведением олимпи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Курсы повышения квалификации прошли  не менее 10 уч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ставлены методические рекомендации по подготовке учащихся к всероссийской олимпиаде школь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Оказана психолого-педагогическая помощь по подготовке к олимпиаде не менее 40 учащимся и не менее 10 педагог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оведен аналитический семинар по выявлению причин низких результатов олимпиад и разработке рекомендаций по их устранению для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педагог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зователи результата проекта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, педагоги, родители общеобразовательных учреждений Новооскольского рай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5" name="TextBox 5"/>
          <p:cNvSpPr/>
          <p:nvPr/>
        </p:nvSpPr>
        <p:spPr>
          <a:xfrm>
            <a:off x="4861080" y="152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оугольник 2"/>
          <p:cNvSpPr/>
          <p:nvPr/>
        </p:nvSpPr>
        <p:spPr>
          <a:xfrm>
            <a:off x="8536680" y="6381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3000"/>
            </a:b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БУДЕТ»)</a:t>
            </a:r>
            <a:br>
              <a:rPr sz="3000"/>
            </a:b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68" name="Номер слайда 3"/>
          <p:cNvSpPr/>
          <p:nvPr/>
        </p:nvSpPr>
        <p:spPr>
          <a:xfrm>
            <a:off x="8705880" y="6404040"/>
            <a:ext cx="277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4" descr="IMG_4636"/>
          <p:cNvPicPr/>
          <p:nvPr/>
        </p:nvPicPr>
        <p:blipFill>
          <a:blip r:embed="rId1"/>
          <a:stretch/>
        </p:blipFill>
        <p:spPr>
          <a:xfrm>
            <a:off x="633240" y="1066680"/>
            <a:ext cx="2573640" cy="16160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P1000470"/>
          <p:cNvPicPr/>
          <p:nvPr/>
        </p:nvPicPr>
        <p:blipFill>
          <a:blip r:embed="rId2"/>
          <a:stretch/>
        </p:blipFill>
        <p:spPr>
          <a:xfrm>
            <a:off x="5778360" y="993600"/>
            <a:ext cx="3084480" cy="19386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6" descr="S8001193"/>
          <p:cNvPicPr/>
          <p:nvPr/>
        </p:nvPicPr>
        <p:blipFill>
          <a:blip r:embed="rId3"/>
          <a:stretch/>
        </p:blipFill>
        <p:spPr>
          <a:xfrm>
            <a:off x="353880" y="4280040"/>
            <a:ext cx="2767320" cy="18525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" descr="P7140068"/>
          <p:cNvPicPr/>
          <p:nvPr/>
        </p:nvPicPr>
        <p:blipFill>
          <a:blip r:embed="rId4"/>
          <a:stretch/>
        </p:blipFill>
        <p:spPr>
          <a:xfrm>
            <a:off x="5924520" y="4138560"/>
            <a:ext cx="2970360" cy="209700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7"/>
          <p:cNvSpPr/>
          <p:nvPr/>
        </p:nvSpPr>
        <p:spPr>
          <a:xfrm>
            <a:off x="214200" y="2714760"/>
            <a:ext cx="358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БОУ «СОШ № 1 с УИОП имени Княжны Ольги Николаевны Романов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"/>
          <p:cNvSpPr/>
          <p:nvPr/>
        </p:nvSpPr>
        <p:spPr>
          <a:xfrm>
            <a:off x="5562720" y="6429240"/>
            <a:ext cx="358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БОУ «СОШ № 4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9"/>
          <p:cNvSpPr/>
          <p:nvPr/>
        </p:nvSpPr>
        <p:spPr>
          <a:xfrm>
            <a:off x="0" y="6357960"/>
            <a:ext cx="358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БОУ «СОШ № 3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5429160" y="2786040"/>
            <a:ext cx="358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БОУ «СОШ № 2 с УИОП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Заголовок 1"/>
          <p:cNvSpPr/>
          <p:nvPr/>
        </p:nvSpPr>
        <p:spPr>
          <a:xfrm>
            <a:off x="642960" y="3143160"/>
            <a:ext cx="7500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оугольник 18"/>
          <p:cNvSpPr/>
          <p:nvPr/>
        </p:nvSpPr>
        <p:spPr>
          <a:xfrm>
            <a:off x="928800" y="2714760"/>
            <a:ext cx="757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униципальный центр по подготовке 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 всероссийской олимпиаде школьников для учащихся общеобразовательных учреждений района на базе 4-х школ г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213840"/>
            <a:ext cx="86868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КОЛИЧЕСТВО УЧАСТНИКОВ РЕГИОНАЛЬНОГО ЭТАПА ВСЕРОССИЙСКОЙ ОЛИМПИАДЫ ШКОЛЬНИКОВ В 2017-2018 УЧЕБНОМ ГОДУ</a:t>
            </a:r>
            <a:endParaRPr b="0" lang="en-US" sz="1700" spc="-1" strike="noStrike">
              <a:solidFill>
                <a:srgbClr val="464646"/>
              </a:solidFill>
              <a:latin typeface="Franklin Gothic Medium"/>
            </a:endParaRPr>
          </a:p>
        </p:txBody>
      </p:sp>
      <p:pic>
        <p:nvPicPr>
          <p:cNvPr id="580" name="Содержимое 4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8848800" cy="5357880"/>
          </a:xfrm>
          <a:prstGeom prst="rect">
            <a:avLst/>
          </a:prstGeom>
          <a:ln w="0">
            <a:noFill/>
          </a:ln>
        </p:spPr>
      </p:pic>
      <p:sp>
        <p:nvSpPr>
          <p:cNvPr id="581" name="Номер слайда 3"/>
          <p:cNvSpPr/>
          <p:nvPr/>
        </p:nvSpPr>
        <p:spPr>
          <a:xfrm>
            <a:off x="468360" y="6477120"/>
            <a:ext cx="852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571E-3473-4691-AB8E-36F6F9901621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6868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КОЛИЧЕСТВО ПОБЕДИТЕЛЕЙ И ПРИЗЕРОВ РЕГИОНАЛЬНОГО ЭТАПА ВСЕРОССИЙСКОЙ ОЛИМПИАДЫ ШКОЛЬНИКОВ В 2017-2018 УЧЕБНОМ ГОДУ</a:t>
            </a:r>
            <a:endParaRPr b="0" lang="en-US" sz="1700" spc="-1" strike="noStrike">
              <a:solidFill>
                <a:srgbClr val="464646"/>
              </a:solidFill>
              <a:latin typeface="Franklin Gothic Medium"/>
            </a:endParaRPr>
          </a:p>
        </p:txBody>
      </p:sp>
      <p:pic>
        <p:nvPicPr>
          <p:cNvPr id="583" name="Содержимое 4" descr=""/>
          <p:cNvPicPr/>
          <p:nvPr/>
        </p:nvPicPr>
        <p:blipFill>
          <a:blip r:embed="rId1"/>
          <a:stretch/>
        </p:blipFill>
        <p:spPr>
          <a:xfrm>
            <a:off x="304920" y="1000080"/>
            <a:ext cx="8686800" cy="5429160"/>
          </a:xfrm>
          <a:prstGeom prst="rect">
            <a:avLst/>
          </a:prstGeom>
          <a:ln w="0">
            <a:noFill/>
          </a:ln>
        </p:spPr>
      </p:pic>
      <p:sp>
        <p:nvSpPr>
          <p:cNvPr id="584" name="Номер слайда 3"/>
          <p:cNvSpPr/>
          <p:nvPr/>
        </p:nvSpPr>
        <p:spPr>
          <a:xfrm>
            <a:off x="468360" y="6477120"/>
            <a:ext cx="852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D0A5-D7FD-4EA8-B551-62EB490FC393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12" descr="Картинки по запросу 3d человечки медицина для презентаций"/>
          <p:cNvPicPr/>
          <p:nvPr/>
        </p:nvPicPr>
        <p:blipFill>
          <a:blip r:embed="rId1"/>
          <a:stretch/>
        </p:blipFill>
        <p:spPr>
          <a:xfrm>
            <a:off x="5572080" y="85716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8" descr="C:\Documents and Settings\Ганагин\Рабочий стол\na-sajt.jpg"/>
          <p:cNvPicPr/>
          <p:nvPr/>
        </p:nvPicPr>
        <p:blipFill>
          <a:blip r:embed="rId2"/>
          <a:stretch/>
        </p:blipFill>
        <p:spPr>
          <a:xfrm>
            <a:off x="3000240" y="3214800"/>
            <a:ext cx="3214800" cy="231444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260280"/>
            <a:ext cx="86868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3000"/>
            </a:b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БУДЕТ»)</a:t>
            </a:r>
            <a:br>
              <a:rPr sz="3000"/>
            </a:b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88" name="Прямоугольник 1"/>
          <p:cNvSpPr/>
          <p:nvPr/>
        </p:nvSpPr>
        <p:spPr>
          <a:xfrm>
            <a:off x="8487720" y="62373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Заголовок 3"/>
          <p:cNvSpPr/>
          <p:nvPr/>
        </p:nvSpPr>
        <p:spPr>
          <a:xfrm>
            <a:off x="1000080" y="1357200"/>
            <a:ext cx="5715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ЗДАНИЕ ЕДИНОЙ СИСТЕМЫ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ЩИХСЯ К УЧАСТИЮ ВО ВСЕРОССИЙСКОЙ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ЛИМПИАДЕ ШКОЛЬНИКОВ </a:t>
            </a:r>
            <a:br>
              <a:rPr sz="3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7" descr="C:\Documents and Settings\Ганагин\Рабочий стол\6SBS7jSX-Vg.jpg"/>
          <p:cNvPicPr/>
          <p:nvPr/>
        </p:nvPicPr>
        <p:blipFill>
          <a:blip r:embed="rId3"/>
          <a:stretch/>
        </p:blipFill>
        <p:spPr>
          <a:xfrm>
            <a:off x="6500880" y="2857680"/>
            <a:ext cx="2643120" cy="19825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9" descr="C:\Documents and Settings\Ганагин\Рабочий стол\f69044c8e3_500.jpg"/>
          <p:cNvPicPr/>
          <p:nvPr/>
        </p:nvPicPr>
        <p:blipFill>
          <a:blip r:embed="rId4"/>
          <a:stretch/>
        </p:blipFill>
        <p:spPr>
          <a:xfrm>
            <a:off x="428760" y="2428920"/>
            <a:ext cx="2428920" cy="2122560"/>
          </a:xfrm>
          <a:prstGeom prst="rect">
            <a:avLst/>
          </a:prstGeom>
          <a:ln w="0">
            <a:noFill/>
          </a:ln>
        </p:spPr>
      </p:pic>
      <p:sp>
        <p:nvSpPr>
          <p:cNvPr id="592" name="Прямоугольник 11"/>
          <p:cNvSpPr/>
          <p:nvPr/>
        </p:nvSpPr>
        <p:spPr>
          <a:xfrm>
            <a:off x="6500880" y="4643280"/>
            <a:ext cx="264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станционная подготовка к олимпиадам через участие в различных предметных конкурсах и дистанционных олимпиад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12"/>
          <p:cNvSpPr/>
          <p:nvPr/>
        </p:nvSpPr>
        <p:spPr>
          <a:xfrm>
            <a:off x="11880" y="4500720"/>
            <a:ext cx="246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вышение квалифик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0" descr="C:\Documents and Settings\Ганагин\Рабочий стол\56b119aeaa1e6.jpg"/>
          <p:cNvPicPr/>
          <p:nvPr/>
        </p:nvPicPr>
        <p:blipFill>
          <a:blip r:embed="rId5"/>
          <a:stretch/>
        </p:blipFill>
        <p:spPr>
          <a:xfrm>
            <a:off x="2286000" y="1143000"/>
            <a:ext cx="2095560" cy="1506600"/>
          </a:xfrm>
          <a:prstGeom prst="rect">
            <a:avLst/>
          </a:prstGeom>
          <a:ln w="0">
            <a:noFill/>
          </a:ln>
        </p:spPr>
      </p:pic>
      <p:sp>
        <p:nvSpPr>
          <p:cNvPr id="595" name="Прямоугольник 14"/>
          <p:cNvSpPr/>
          <p:nvPr/>
        </p:nvSpPr>
        <p:spPr>
          <a:xfrm>
            <a:off x="2286720" y="2500200"/>
            <a:ext cx="239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сихолого-педагог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прово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рямоугольник 16"/>
          <p:cNvSpPr/>
          <p:nvPr/>
        </p:nvSpPr>
        <p:spPr>
          <a:xfrm>
            <a:off x="4714920" y="264312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здание банков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409320" y="4111560"/>
            <a:ext cx="8458200" cy="217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d3d3d"/>
                </a:solidFill>
                <a:latin typeface="Franklin Gothic Book"/>
              </a:rPr>
              <a:t>Руководитель проекта: </a:t>
            </a: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Нехаев Юрий Николаевич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               </a:t>
            </a: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Электронный адрес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Franklin Gothic Book"/>
                <a:hlinkClick r:id="rId1"/>
              </a:rPr>
              <a:t>http://www.edunoskol.ru/</a:t>
            </a: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, 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тел. 8 (47 233) 4-50-90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d3d3d"/>
                </a:solidFill>
                <a:latin typeface="Franklin Gothic Book"/>
              </a:rPr>
              <a:t>Администратор проекта: </a:t>
            </a: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Лакомова Марина Борисовна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тел. 8 (47 233) 4-51-47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Medium"/>
              </a:rPr>
              <a:t>КОНТАКТНЫЕ ДАННЫЕ: </a:t>
            </a:r>
            <a:br>
              <a:rPr sz="3200"/>
            </a:br>
            <a:endParaRPr b="0" lang="en-US" sz="32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1508040" y="3390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1"/>
          <p:cNvSpPr/>
          <p:nvPr/>
        </p:nvSpPr>
        <p:spPr>
          <a:xfrm>
            <a:off x="8394120" y="60930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3:06:54Z</dcterms:created>
  <dc:creator>Павел Гончаренко</dc:creator>
  <dc:description/>
  <dc:language>en-US</dc:language>
  <cp:lastModifiedBy>lakomova_m</cp:lastModifiedBy>
  <cp:lastPrinted>2013-01-24T11:51:16Z</cp:lastPrinted>
  <dcterms:modified xsi:type="dcterms:W3CDTF">2021-07-11T09:32:46Z</dcterms:modified>
  <cp:revision>877</cp:revision>
  <dc:subject/>
  <dc:title>Слайд 1</dc:title>
</cp:coreProperties>
</file>