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7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39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33A6-90DC-44B4-AF2B-5D9E704F1A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68ED-51A0-42BA-B1EA-9AA4848F5B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F3C-A277-46BD-80B1-8A43261F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D43-832F-4104-81E5-7091F2AE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1D0DA-7F91-403E-A873-362326C3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C6C9D-1EA4-4964-B8A3-1D01261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66190-88FC-4834-ABA3-386A79D0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EAD79-67CF-4BD2-B9EE-5037DE89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3B540-CC58-44B4-B668-9930E71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FD6F2-7AC1-4A8B-B584-DAEA97D8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702B2-C54E-4084-9DA8-018D3E1C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668FD-12DF-493E-BB1C-F23B99E8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59333-D472-4DFA-987B-ABFD5324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A5D6B-E35B-4681-8476-221871C2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0C1-B1B9-4370-BF93-ED4B55EC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592CE-49F6-49A7-A95D-4625B7AB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D3A7C-9967-4B22-A8AD-B7DD289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EDC43-9C64-4AE4-B061-885E8EB5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2D9A3-52C6-4583-9577-B347DB70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19CB4-2936-4366-9B11-4F82F555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71F62-1D81-4499-8372-B9A1D812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7F353-2A9F-4234-9ABB-89FD99E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E39D6-D366-4459-BC27-094F609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493E7-9C7A-4F22-B0FD-DF71004C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7880E-D92A-4357-8C4F-8A2EE14C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39A-18BC-417B-94CA-E5418F64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DC6C1-BA80-441A-9B1D-62974918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3F537-E30A-45AB-9ED6-48654D7A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459C3-D9A7-4A5F-AEC4-4E6675F7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3AD71-A6AE-4EB0-B1C2-EB13CFE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DE0CC-4AD5-4E18-8BD3-2072A491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AA839-04F7-4201-B221-FD1B2E16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77EB4-FE7D-46D0-88C2-0D5333CA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14D41-2DB3-4D9F-94FF-0F1BE36B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F7CF2-2C69-4F82-B37A-96AD876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8327E-B122-4C8D-9BAB-7BDA0F2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72BE-0DC5-41D1-9CCE-E545C8AA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496B2-8CC3-4B08-A173-C324AFEA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F1379-4A34-4696-A9FA-9C542CF2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17A68-ABCB-4912-9798-F44DCD06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CFEEB-8D9D-4357-BC9B-5C6896E7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E8535-4ECA-4580-ABB2-C4C03113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A464F-B6F5-4886-8F4B-55930AE0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4D8EF-CF20-4B6A-B9FD-DA2D39D6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A34E2-6190-4C08-8B23-72F79FA1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1F165-4803-420F-A5D4-8EE79769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E07C8-C952-43A1-AD60-C5794048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1E2C-048F-40A4-9876-F172C676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1DAAA-B3F3-4189-B728-97DC898D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9853D-4756-4DE8-9695-93E78EC4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7AF1B-86F4-4CB3-B81F-AED57149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49864-7703-49A2-8F18-3F3A7C41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4BC72-C299-4A19-BABF-451E3181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C65A-5067-4E06-910B-30648A56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1523-1A5B-448B-ADE3-C1E412C3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EF2A-FE64-4563-ADEB-3EF66572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25A5-66EF-4EB5-B079-CD938DFA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13A6-4E07-4826-A1E9-F4F6746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1D6-259E-4E48-870E-CC6E4C5F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7E41-20D7-43B7-9DAB-6CCBD0A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571F-8D14-4DDD-B6A3-703EB72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0C32-EAAD-4719-A822-27947C93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0851-7539-4D78-95C9-A650ACBE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B99D-9D06-4981-BFD2-17A272BE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8D9B-55F2-4832-903A-C7AAF925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B2AF-845F-4246-A1A7-D10CED99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F575-BA2A-4240-95DC-FAA10DB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9ADD-8F62-433A-A41A-5AC43749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7D56-3438-47CB-B9FA-9E4F2E1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016-CE3E-4313-A94A-E20346AE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68DB-8250-43C1-A2D5-7E083421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8E69-0847-4A46-ADD2-0D2C909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387C-71EF-4B7C-8B30-F2654D7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FCFA-41BE-40B6-8F9B-0A8BF2E1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64A4-DE00-4C06-BD66-24CC623E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2788-3B8F-4D60-85C2-33DA8B98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8417-A2C0-48FF-A37C-7588A999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8241-FC6C-47AA-AEC7-BF48908F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7D63-B79C-4E1E-ACAF-BEA85F3C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A5F1-4CF6-4428-AA35-7D0F5BDF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924-5CAF-4818-B4A2-86E6FF1A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F452F-2CF4-42D8-B3BA-389E5FD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46014-F82E-457A-AE2B-9044F6D5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1FD11-EEC9-4272-B51C-AFAAF5B9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36BE-56B0-46EA-A28E-BFB8A35B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D276-1B16-49F7-8817-FD43F5D1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964A-0AA8-4CF5-AF0A-E26E1CDA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1CE3A-5CC7-4908-BD52-AABC7A7D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EF66-7899-4361-8836-130899BD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71C2E-87DB-4ACA-9B93-68FCC7AC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012C1-FC40-4EA8-9D8A-ADD9CE70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937-3643-4F3A-8D7B-BA03A9EE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C1914-B857-49AB-8738-8F8A633D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6707-5198-4C66-BC6F-A2DAE3F4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81DF2-D269-42B4-BE22-D159FC9C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AA84-B173-4538-B277-0B102382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CADB-8CF4-4431-9BDD-2159A10A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45700-78CC-4A9B-B13B-F326C058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A5D8-8258-477E-A79B-933AEBD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61573-5611-4E3C-872C-DB671BBC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10EA-018C-478A-AE90-9A7F40EE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B2691-9D3D-4A79-9540-108A629D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2B3-5FF3-4CCA-9CEF-84BF6F69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5EF5-AC51-4F4B-A0BE-2068C903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BB2B-6CC1-4461-8F0A-67D2F8EC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28F0-3D80-4552-83F2-CBCA1292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42DE5-B21C-4375-BCBD-4926DCA4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152EC-498F-4F4E-AC4D-A550DEBB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11E81-9324-4DDC-B6E6-36B959C2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DC48-BB6D-46B4-A42B-4A8A6407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3449-4F53-4863-B830-04352B9D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79432-D407-42BA-BAAF-83DFDCF2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8836-2AE7-41A7-BFC2-EDA37E6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F5F-A0F3-4BEA-AB78-69DF68D0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D10F7-804A-4623-B5E3-0B8CEFA6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24B4-22EE-4EB9-B20C-9BE30478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9AB5-BCCB-4866-AF45-B4B34B37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531FA-C82A-40CE-8C77-D110188E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44CB2-2E20-4981-8C11-C98CC0DB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32CD0-663E-48FC-AA2A-96115481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2DFDA-8034-4A1A-8BD4-C74EFFD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8A69-BB23-4F96-AC6B-824E0ED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98F87-466E-42DB-86D8-CB1ED9D7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76316-2D86-4C05-8AC4-5A8BB944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7FC-5B7E-4565-A861-11ACCFF5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2F642-88B3-4C04-9D8D-F6A4188C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9B540-04E3-4F39-9B5C-EA5A754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6D2DC-6BDD-4887-96E9-179F957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D04B5-D9F0-467C-876E-82B09E63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0939-4FC4-4261-91E0-D378F9AD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36D2D-2590-424D-AC9F-E22DB90E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53B79-5A98-4757-93A4-D85695AF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2DA68-865B-4649-B75E-8B53AFE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C8E2B-E08D-4A5C-BDBC-B6EEAE19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0AC49-A8F4-44A8-9708-A83937D1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D86-E2B6-4F4F-9718-365E1D9D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85405-CC4E-4E7D-A5B3-0CD4ADF8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75A16-DD1D-4748-AEBA-939A802C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D68F0-FCA6-4955-BB2F-62DBC6E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19B32-4156-499A-9697-55BE0DC8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B2009-2F46-439D-A405-F464515A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6AA87-84FC-4F6B-AABB-E8361F23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3CCCC-CBB6-43CA-A0F8-E432A694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65D27-56F1-47B7-8C9C-0AAAC223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1B01E-0F42-4F5B-8E90-B2AC6006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6D32D-B523-4EC0-B9B8-AD232DA8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9332-61E8-4070-8D8E-3A08C73F1095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639-5C22-45D5-8104-0CC34073DA0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AC6C-5B62-4106-9904-015E05F997DE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3154-428A-48DF-B22B-9AB17D2A3D84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32A6-9579-4C70-8FC1-BAD0DB9C9322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244B-F6A8-41E5-9CA1-698AA63ECFB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3FF-9506-4EF1-A0BE-78D546F2FA7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8213-60EF-4559-9E8C-3A843FB4D57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4022640"/>
            <a:ext cx="8643960" cy="25560"/>
            <a:chOff x="506520" y="4022640"/>
            <a:chExt cx="8643960" cy="255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402264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A4DC-BA4B-4616-B394-3F2C62666FC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6CA-E61A-417B-A185-C2A7FF39F3F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B8B7-7AE9-4935-B5AC-8D7E8D0F218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A645-B1C4-4D7B-9AE5-A544996E1D5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3546-1FA8-4CEE-AEC0-C3325CF2072D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5DF4-C794-4E25-90AF-EB55B3BAAC28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09D-4E7C-447F-A191-CE437C2A9DF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4B25-C4FE-4919-8316-9B696F648B68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72A0-8EAE-4DE2-9DF3-FCDAFB3D6F3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3A54-4758-465E-92C2-EB3B09526E0A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8DFE-F353-4B05-A893-70870F48174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Эффективное управление временем и ресурсами.                                                                                            </a:t>
            </a:r>
            <a:fld id="{1CBBB6CC-93EA-4F0F-B0D4-5D40E8241B4A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3462-3D1A-4ED5-BCE9-33B16995CF9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4DF1-0741-4ACD-A973-0DD54746963C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4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F34B-ECCB-4469-B89D-97E75BDBF73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E7FC-64C7-4E8E-AE28-E47EE9A3BC8E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dunoskol.ru/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1440" y="213372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400" spc="-1" strike="noStrike">
                <a:solidFill>
                  <a:srgbClr val="464646"/>
                </a:solidFill>
                <a:latin typeface="Franklin Gothic Medium"/>
              </a:rPr>
              <a:t>«РАЗВИТИЕ КОНСТРУКТИВНОЙ И ИССЛЕДОВАТЕЛЬСКОЙ ДЕЯТЕЛЬНОСТИ СТАРШИХ ДОШКОЛЬНИКОВ В УСЛОВИЯХ </a:t>
            </a:r>
            <a:br>
              <a:rPr sz="2400"/>
            </a:br>
            <a:r>
              <a:rPr b="1" lang="ru-RU" sz="2400" spc="-1" strike="noStrike">
                <a:solidFill>
                  <a:srgbClr val="464646"/>
                </a:solidFill>
                <a:latin typeface="Franklin Gothic Medium"/>
              </a:rPr>
              <a:t>УЧЕБНО – ИГРОВОГО ЛЕГО - ЦЕНТРА» </a:t>
            </a:r>
            <a:br>
              <a:rPr sz="2400"/>
            </a:br>
            <a:endParaRPr b="0" lang="en-US" sz="24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80520" y="1628280"/>
            <a:ext cx="84582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правление образования администрации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муниципального района «Новооскольский район»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57120" y="5013360"/>
            <a:ext cx="572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Начальник управления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администрации Новоосколь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Franklin Gothic Book"/>
              </a:rPr>
              <a:t>Нехаев Юрий Никола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32400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Franklin Gothic Book"/>
              </a:rPr>
              <a:t>Новый Оскол, 202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326880" y="230040"/>
            <a:ext cx="1142640" cy="1294920"/>
            <a:chOff x="326880" y="230040"/>
            <a:chExt cx="1142640" cy="1294920"/>
          </a:xfrm>
        </p:grpSpPr>
        <p:pic>
          <p:nvPicPr>
            <p:cNvPr id="561" name="Picture 9" descr="gerbbot"/>
            <p:cNvPicPr/>
            <p:nvPr/>
          </p:nvPicPr>
          <p:blipFill>
            <a:blip r:embed="rId1"/>
            <a:stretch/>
          </p:blipFill>
          <p:spPr>
            <a:xfrm>
              <a:off x="326880" y="1054440"/>
              <a:ext cx="114264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0" descr="gerbtop"/>
            <p:cNvPicPr/>
            <p:nvPr/>
          </p:nvPicPr>
          <p:blipFill>
            <a:blip r:embed="rId2"/>
            <a:stretch/>
          </p:blipFill>
          <p:spPr>
            <a:xfrm>
              <a:off x="326880" y="230040"/>
              <a:ext cx="1142640" cy="82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108000" y="1125360"/>
          <a:ext cx="8928000" cy="5254920"/>
        </p:xfrm>
        <a:graphic>
          <a:graphicData uri="http://schemas.openxmlformats.org/drawingml/2006/table">
            <a:tbl>
              <a:tblPr/>
              <a:tblGrid>
                <a:gridCol w="363600"/>
                <a:gridCol w="2371680"/>
                <a:gridCol w="792000"/>
                <a:gridCol w="936720"/>
                <a:gridCol w="863640"/>
                <a:gridCol w="720720"/>
                <a:gridCol w="812880"/>
                <a:gridCol w="771480"/>
                <a:gridCol w="718920"/>
                <a:gridCol w="576360"/>
              </a:tblGrid>
              <a:tr h="27432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едера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ст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т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инвест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хоз. субъ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ем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на официальном сайте управления образования информации о ходе реализации проек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муниципального информационно-методического семинара о работе 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ить методические рекомендации по работе муниципального учебно-игрового лего – цент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4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иагностики конструктивных и исследовательских способностей дошкольников (итоговая диагност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9" name="Прямоугольник 2"/>
          <p:cNvSpPr/>
          <p:nvPr/>
        </p:nvSpPr>
        <p:spPr>
          <a:xfrm>
            <a:off x="8536680" y="648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УЧАСТИЕ БЮДЖЕТОВ В ПРОЕКТЕ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50920" y="1116000"/>
          <a:ext cx="8785080" cy="5192640"/>
        </p:xfrm>
        <a:graphic>
          <a:graphicData uri="http://schemas.openxmlformats.org/drawingml/2006/table">
            <a:tbl>
              <a:tblPr/>
              <a:tblGrid>
                <a:gridCol w="461880"/>
                <a:gridCol w="3498840"/>
                <a:gridCol w="1584360"/>
                <a:gridCol w="1511280"/>
                <a:gridCol w="1728720"/>
              </a:tblGrid>
              <a:tr h="33516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орма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змер участия бюджета 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едер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с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ямое бюджетное финанс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емельный учас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нфра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р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Электро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азо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до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есп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арант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чие формы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36000" r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Номер слайда 3"/>
          <p:cNvSpPr/>
          <p:nvPr/>
        </p:nvSpPr>
        <p:spPr>
          <a:xfrm>
            <a:off x="8643960" y="6429240"/>
            <a:ext cx="347760" cy="29232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7FF5-7AEC-4C6C-AA01-FEF9A26C49C0}" type="slidenum">
              <a:rPr b="1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430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ПОКАЗАТЕЛИ СОЦИАЛЬНОЙ, БЮДЖЕТНОЙ И ЭКОНОМИЧЕСКОЙ ЭФФЕКТИВНОСТИ ПРОЕКТА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79280" y="1073160"/>
          <a:ext cx="8882280" cy="5607000"/>
        </p:xfrm>
        <a:graphic>
          <a:graphicData uri="http://schemas.openxmlformats.org/drawingml/2006/table">
            <a:tbl>
              <a:tblPr/>
              <a:tblGrid>
                <a:gridCol w="466920"/>
                <a:gridCol w="6373800"/>
                <a:gridCol w="1177920"/>
                <a:gridCol w="863640"/>
              </a:tblGrid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циальная эффе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астие населения в реализации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че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овые рабочие ме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яя 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ячный Ф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довой Ф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Иные 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ная эффе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астие бюджетных источников в проек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,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и в консолидированный бюджет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 с 1 работника в консолидированный бюджет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ок окупаемости бюджетных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Снижение возможного ущер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Экономия бюдже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Экономическая эффе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довой объем выручки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довой объем прибыли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нтаб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ок окупаемости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ъем инвестиций в основной капитал в рамках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ъем инвестиций, осваиваемых на территории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ные 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Прямоугольник 6"/>
          <p:cNvSpPr/>
          <p:nvPr/>
        </p:nvSpPr>
        <p:spPr>
          <a:xfrm>
            <a:off x="179280" y="6626160"/>
            <a:ext cx="61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* - после выхода хозяйствующего субъекта на проектную мощ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КОМАНДА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14200" y="509760"/>
          <a:ext cx="8786880" cy="6190920"/>
        </p:xfrm>
        <a:graphic>
          <a:graphicData uri="http://schemas.openxmlformats.org/drawingml/2006/table">
            <a:tbl>
              <a:tblPr/>
              <a:tblGrid>
                <a:gridCol w="363600"/>
                <a:gridCol w="1636920"/>
                <a:gridCol w="3357360"/>
                <a:gridCol w="3429000"/>
              </a:tblGrid>
              <a:tr h="31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Роль в проек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Богачев Виктор Алекс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главы администрации района по социальной поли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тор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ехаев Юрий Никола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Лакомова Марина Борис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лова Ирина Алекс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ор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Титова Наталья Вячеслав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отдела прогнозирования и экономического анализа бюджетного процесса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курсы повышения квалификаци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талова Людмила Вячеслав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пециалист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проведение анкетирования на выявление конструктивных и исследовательских навыков дошкольников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сникова Ири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МБУ ДО «Детский сад № 2 компенсирующего вида г. Нового Оскола Белгород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МБДОУ «Ум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ыкина Ольг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МБУ ДО «Детский сад № 3 комбинированного вида г. Нового Оскола Белгород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МБДОУ «Д/с №3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ва Александра Иван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МБУ ДО «Детский сад № 9 комбинированного вида г. Нового Оскола Белгород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МБДОУ «Д/с №9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юнова Ирина Владими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МБУ ДО «Детский сад № 10 комбинированного вида г. Нового Оскола Белгород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МБДОУ «Д/с №10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09320" y="4111560"/>
            <a:ext cx="8458200" cy="217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Руководитель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Нехаев Юрий Николаевич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              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Электронный адрес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ranklin Gothic Book"/>
                <a:hlinkClick r:id="rId1"/>
              </a:rPr>
              <a:t>http://www.edunoskol.ru/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, 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0-90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Администратор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Лакомова Марина Борисовна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1-47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КОНТАКТНЫЕ ДАННЫЕ: </a:t>
            </a:r>
            <a:br>
              <a:rPr sz="3200"/>
            </a:br>
            <a:endParaRPr b="0" lang="en-US" sz="3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8394120" y="6093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ЕСТЬ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4" name="Прямоугольник 3"/>
          <p:cNvSpPr/>
          <p:nvPr/>
        </p:nvSpPr>
        <p:spPr>
          <a:xfrm>
            <a:off x="8608320" y="644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0" y="1571760"/>
            <a:ext cx="2714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ФГОС ДО к созданию развивающей предметно – пространственной среды, ориентированной на овладение детьми способами усвоения знаний на основе системно – деятельностного под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C:\Documents and Settings\Ганагин\Рабочий стол\фгос.jpg"/>
          <p:cNvPicPr/>
          <p:nvPr/>
        </p:nvPicPr>
        <p:blipFill>
          <a:blip r:embed="rId1"/>
          <a:stretch/>
        </p:blipFill>
        <p:spPr>
          <a:xfrm>
            <a:off x="0" y="4143240"/>
            <a:ext cx="2786040" cy="2714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C:\Documents and Settings\Ганагин\Рабочий стол\3307717c0fe122dc2ed142f42c77bf35_XL.jpg"/>
          <p:cNvPicPr/>
          <p:nvPr/>
        </p:nvPicPr>
        <p:blipFill>
          <a:blip r:embed="rId2"/>
          <a:stretch/>
        </p:blipFill>
        <p:spPr>
          <a:xfrm>
            <a:off x="2857680" y="1143000"/>
            <a:ext cx="2992320" cy="207972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11"/>
          <p:cNvSpPr/>
          <p:nvPr/>
        </p:nvSpPr>
        <p:spPr>
          <a:xfrm>
            <a:off x="2786040" y="3286080"/>
            <a:ext cx="3214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3 дошкольных образовательных учреждениях Новооскольского района (МДОУ Д/с №2, МДОУ Д/с №3, МБДОУ Д/с №9, МДОУ Д/с №10 имеются условия (материальные, кадровые, методические и т.д.) для создания учебно – игрового ЛЕГО -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0" descr=""/>
          <p:cNvPicPr/>
          <p:nvPr/>
        </p:nvPicPr>
        <p:blipFill>
          <a:blip r:embed="rId3"/>
          <a:stretch/>
        </p:blipFill>
        <p:spPr>
          <a:xfrm>
            <a:off x="6072120" y="3286080"/>
            <a:ext cx="2857680" cy="342756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14"/>
          <p:cNvSpPr/>
          <p:nvPr/>
        </p:nvSpPr>
        <p:spPr>
          <a:xfrm>
            <a:off x="6000840" y="1143000"/>
            <a:ext cx="3143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дошкольных образовательных учреждений Новооскольского района являются активными участниками Межрайонного фестиваля технического творчества и 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85760" y="642960"/>
          <a:ext cx="8815320" cy="5624640"/>
        </p:xfrm>
        <a:graphic>
          <a:graphicData uri="http://schemas.openxmlformats.org/drawingml/2006/table">
            <a:tbl>
              <a:tblPr/>
              <a:tblGrid>
                <a:gridCol w="1785960"/>
                <a:gridCol w="7029360"/>
              </a:tblGrid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к 1 сентября 2020 года условия для развития конструктивной и исследовательской деятельности в дошкольных образовательных учреждения Новооскольского района (МБДОУ Д/с «Умка», МБДОУ Д/с №3, МБДОУ Д/с №9, МБДОУ Д/с №10) с охватом не менее 150 старших дошколь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достижения 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униципального учебно-игрового Лего – центра на базе 3-х дошкольных образовательных учреждениях Новооскольского района (МБДОУ Д/с «Умка», МБДОУ Д/с №3, МБДОУ Д/с №10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проек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а работа муниципального учебно-игрового Лего – центра для не менее 150 воспитан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у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о анкетирование на выявление конструктивных и исследовательских навыков у не менее 150 дошколь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урсы повышения квалификации прошли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6 воспита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твержден приказ по созданию муниципального учебно-игрового Лего – центра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азработка положения о деятельности муниципального  учебно-игрового ЛЕГО-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Организованы и проведены не менее 10 консультаций и 5 семинаров для родителей по ознакомлению с ЛЕГО - конструированием и робототехникой в дошкольных образовательных учрежден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оведен мастер-класс для родителей по использованию ЛЕГО-конструирования в детском са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ели результата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ники, педагоги, родители дошкольных образовательных учреждений Новоосколь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TextBox 5"/>
          <p:cNvSpPr/>
          <p:nvPr/>
        </p:nvSpPr>
        <p:spPr>
          <a:xfrm>
            <a:off x="4861080" y="152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8" descr="C:\Documents and Settings\Ганагин\Рабочий стол\na-sajt.jpg"/>
          <p:cNvPicPr/>
          <p:nvPr/>
        </p:nvPicPr>
        <p:blipFill>
          <a:blip r:embed="rId1"/>
          <a:stretch/>
        </p:blipFill>
        <p:spPr>
          <a:xfrm>
            <a:off x="642960" y="3714840"/>
            <a:ext cx="3214800" cy="23144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4857840" y="3071880"/>
            <a:ext cx="4286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Заголовок 1"/>
          <p:cNvSpPr/>
          <p:nvPr/>
        </p:nvSpPr>
        <p:spPr>
          <a:xfrm>
            <a:off x="642960" y="3143160"/>
            <a:ext cx="7500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18"/>
          <p:cNvSpPr/>
          <p:nvPr/>
        </p:nvSpPr>
        <p:spPr>
          <a:xfrm>
            <a:off x="428760" y="5473800"/>
            <a:ext cx="35002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учебно-игр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 – центр на базе МДОУ Д/с №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Д/с №3, МБДОУ Д/с №9, МДОУ Д/с №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3"/>
          <p:cNvSpPr/>
          <p:nvPr/>
        </p:nvSpPr>
        <p:spPr>
          <a:xfrm>
            <a:off x="142920" y="3000240"/>
            <a:ext cx="37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ащение предметно-пространственной среды ДОУ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4" descr=""/>
          <p:cNvPicPr/>
          <p:nvPr/>
        </p:nvPicPr>
        <p:blipFill>
          <a:blip r:embed="rId2"/>
          <a:stretch/>
        </p:blipFill>
        <p:spPr>
          <a:xfrm>
            <a:off x="476280" y="1066680"/>
            <a:ext cx="3260520" cy="3645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" descr="C:\Documents and Settings\Ганагин\Рабочий стол\f69044c8e3_500.jpg"/>
          <p:cNvPicPr/>
          <p:nvPr/>
        </p:nvPicPr>
        <p:blipFill>
          <a:blip r:embed="rId3"/>
          <a:stretch/>
        </p:blipFill>
        <p:spPr>
          <a:xfrm>
            <a:off x="5643720" y="1000080"/>
            <a:ext cx="2786040" cy="212256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18"/>
          <p:cNvSpPr/>
          <p:nvPr/>
        </p:nvSpPr>
        <p:spPr>
          <a:xfrm>
            <a:off x="4786200" y="6027840"/>
            <a:ext cx="41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астер-класса для родителей по использованию ЛЕГО-конструирования в детском са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5" descr="C:\Documents and Settings\Ганагин\Рабочий стол\20170921_007.JPG"/>
          <p:cNvPicPr/>
          <p:nvPr/>
        </p:nvPicPr>
        <p:blipFill>
          <a:blip r:embed="rId4"/>
          <a:stretch/>
        </p:blipFill>
        <p:spPr>
          <a:xfrm>
            <a:off x="5261040" y="3780000"/>
            <a:ext cx="3267000" cy="431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42920" y="785880"/>
          <a:ext cx="8929800" cy="5898960"/>
        </p:xfrm>
        <a:graphic>
          <a:graphicData uri="http://schemas.openxmlformats.org/drawingml/2006/table">
            <a:tbl>
              <a:tblPr/>
              <a:tblGrid>
                <a:gridCol w="423720"/>
                <a:gridCol w="2933640"/>
                <a:gridCol w="571680"/>
                <a:gridCol w="785880"/>
                <a:gridCol w="785880"/>
                <a:gridCol w="285480"/>
                <a:gridCol w="357480"/>
                <a:gridCol w="350640"/>
                <a:gridCol w="316080"/>
                <a:gridCol w="423720"/>
                <a:gridCol w="423720"/>
                <a:gridCol w="424080"/>
                <a:gridCol w="423720"/>
                <a:gridCol w="424080"/>
              </a:tblGrid>
              <a:tr h="2743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лительность,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чал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конч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.01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8.02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условий (материально – технических, кадровых, организационно – педагогических) для внедрения ЛЕГО – конструирования и робототехники в образовательный процесс детского с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.01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.02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анкетирование на выявление конструктивных и исследовательских навыков у 150 дошкольников старших и подготовительных к школе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3.03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2.05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ормативно-правовой базы  муниципального учебно-игрового лего – цент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7.03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9.05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консультаций и семинаров для родителей по ознакомлению с ЛЕГО - конструированием и робототехникой с целью развития конструктивной и исследовательской деятельности дошк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1.06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.08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актуальной информации о центре на сайтах  образовательных организаций, управления образован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3.07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.08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52280" y="944640"/>
          <a:ext cx="8666280" cy="5427720"/>
        </p:xfrm>
        <a:graphic>
          <a:graphicData uri="http://schemas.openxmlformats.org/drawingml/2006/table">
            <a:tbl>
              <a:tblPr/>
              <a:tblGrid>
                <a:gridCol w="419400"/>
                <a:gridCol w="2499480"/>
                <a:gridCol w="642960"/>
                <a:gridCol w="785880"/>
                <a:gridCol w="785520"/>
                <a:gridCol w="216000"/>
                <a:gridCol w="285480"/>
                <a:gridCol w="285840"/>
                <a:gridCol w="285840"/>
                <a:gridCol w="216000"/>
                <a:gridCol w="285840"/>
                <a:gridCol w="357120"/>
                <a:gridCol w="357120"/>
                <a:gridCol w="285840"/>
                <a:gridCol w="285840"/>
                <a:gridCol w="357120"/>
                <a:gridCol w="315000"/>
              </a:tblGrid>
              <a:tr h="2743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ь,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оложения о деятельности учебно-игрового ЛЕГО-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иагностики конструктивных и исследовательских способностей дошкольников (входная диагност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валификации педаг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апробация системы занятий, игр и упражнений по ЛЕГО-конструированию и робототехнике в старшей груп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9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87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астер-класса для родителей по использованию ЛЕГО-конструирования в детском са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07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8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52280" y="944640"/>
          <a:ext cx="8666280" cy="5149800"/>
        </p:xfrm>
        <a:graphic>
          <a:graphicData uri="http://schemas.openxmlformats.org/drawingml/2006/table">
            <a:tbl>
              <a:tblPr/>
              <a:tblGrid>
                <a:gridCol w="490680"/>
                <a:gridCol w="2428200"/>
                <a:gridCol w="642960"/>
                <a:gridCol w="785880"/>
                <a:gridCol w="785520"/>
                <a:gridCol w="216000"/>
                <a:gridCol w="285480"/>
                <a:gridCol w="285840"/>
                <a:gridCol w="285840"/>
                <a:gridCol w="216000"/>
                <a:gridCol w="285840"/>
                <a:gridCol w="357120"/>
                <a:gridCol w="357120"/>
                <a:gridCol w="285840"/>
                <a:gridCol w="285840"/>
                <a:gridCol w="357120"/>
                <a:gridCol w="315000"/>
              </a:tblGrid>
              <a:tr h="2743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ь,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на официальном сайте управления образования информации о ходе реализации проек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муниципального информационно-методического семинара о работе 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9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ить методические рекомендации по работе муниципального учебно-игрового лего – цент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6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8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иагностики конструктивных и исследовательских способностей дошкольников (итоговая диагност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9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590" name="Прямоугольник 2"/>
          <p:cNvSpPr/>
          <p:nvPr/>
        </p:nvSpPr>
        <p:spPr>
          <a:xfrm>
            <a:off x="8463600" y="6308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250920" y="571680"/>
          <a:ext cx="8750160" cy="5997240"/>
        </p:xfrm>
        <a:graphic>
          <a:graphicData uri="http://schemas.openxmlformats.org/drawingml/2006/table">
            <a:tbl>
              <a:tblPr/>
              <a:tblGrid>
                <a:gridCol w="463320"/>
                <a:gridCol w="2928960"/>
                <a:gridCol w="647640"/>
                <a:gridCol w="633600"/>
                <a:gridCol w="772920"/>
                <a:gridCol w="470160"/>
                <a:gridCol w="799920"/>
                <a:gridCol w="758880"/>
                <a:gridCol w="708120"/>
                <a:gridCol w="566640"/>
              </a:tblGrid>
              <a:tr h="27432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 проекта,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инвес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хоз. субъ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условий (материально – технических, кадровых, организационно – педагогических) для внедрения ЛЕГО – конструирования и робототехники в образовательный процесс детского с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анкетирование на выявление конструктивных и исследовательских навыков у 150 дошкольников старших и подготовительных к школе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ормативно-правовой базы  муниципального учебно-игрового лего – цент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консультаций и семинаров для родителей по ознакомлению с ЛЕГО - конструированием и робототехникой с целью развития конструктивной и исследовательской деятельности дошк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актуальной информации о центре на сайтах  образовательных организаций, управления образован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3" name="Прямоугольник 2"/>
          <p:cNvSpPr/>
          <p:nvPr/>
        </p:nvSpPr>
        <p:spPr>
          <a:xfrm>
            <a:off x="8536680" y="648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42920" y="714240"/>
          <a:ext cx="8786880" cy="5261040"/>
        </p:xfrm>
        <a:graphic>
          <a:graphicData uri="http://schemas.openxmlformats.org/drawingml/2006/table">
            <a:tbl>
              <a:tblPr/>
              <a:tblGrid>
                <a:gridCol w="357120"/>
                <a:gridCol w="2595600"/>
                <a:gridCol w="914400"/>
                <a:gridCol w="703080"/>
                <a:gridCol w="673200"/>
                <a:gridCol w="709560"/>
                <a:gridCol w="800280"/>
                <a:gridCol w="758880"/>
                <a:gridCol w="707760"/>
                <a:gridCol w="567000"/>
              </a:tblGrid>
              <a:tr h="27432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едера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ст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т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инвест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хоз. субъ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ем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оложения о деятельности учебно-игрового ЛЕГО-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иагностики конструктивных и исследовательских способностей дошкольников (входная диагност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валификации педаг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апробация системы занятий, игр и упражнений по ЛЕГО-конструированию и робототехнике в старшей груп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астер-класса для родителей по использованию ЛЕГО-конструирования в детском са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Прямоугольник 2"/>
          <p:cNvSpPr/>
          <p:nvPr/>
        </p:nvSpPr>
        <p:spPr>
          <a:xfrm>
            <a:off x="8536680" y="648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lakomova_m</cp:lastModifiedBy>
  <cp:lastPrinted>2013-01-24T11:51:16Z</cp:lastPrinted>
  <dcterms:modified xsi:type="dcterms:W3CDTF">2021-07-11T10:58:35Z</dcterms:modified>
  <cp:revision>891</cp:revision>
  <dc:subject/>
  <dc:title>Слайд 1</dc:title>
</cp:coreProperties>
</file>